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50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BB0-3BCF-4394-AFD7-ABC2FB93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E9D-FB34-4D00-82C7-D4A564E2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1E2-115A-4463-B5E1-EEC0E908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3B0-E8B9-4EC2-A0F8-81208D0E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F41-893C-440D-A0CB-11D12550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06E-354E-481E-B677-1A83C5B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08E-5B9D-422F-BCA1-3C1565BA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894-FA9D-4B69-A964-46EB6E0E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E95-B80A-4007-AFCB-A1B48BD8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441-020B-4DE1-A5C3-92F2D69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A6E-5D21-4FB3-BEB6-3A161FD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6EB-CB02-48AB-B0B5-73A6BB6D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D479-9C16-467B-BCC8-A1A4F3241F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pop%202.MP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jazz%202.MPG" TargetMode="Externa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rock.mpg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836-7952-4DAE-B1BA-2F7E1AA4C9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b.) be familiar with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某人…对比较熟悉”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熟悉她的声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ha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come familiar with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0800" y="3886200"/>
            <a:ext cx="59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familiar wi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018-22AD-4FDE-9715-B09F3792D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 familiar to s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对某人来说比较熟悉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r nam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amilia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267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ery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familiar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r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D19-782B-4890-850A-9784F5EC4D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7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ve some fai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iet and peaceful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would prefer to do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DF6-39B4-421C-A56B-74E30FC97F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 ---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rath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ay her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-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H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 rather no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isten to jaz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7280" y="41911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’d rathe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FFE-15DB-4990-A092-6410BA6C37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 +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 the tru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d not me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562-1700-405E-B9E8-165AC8B1C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宁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而不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rather hav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red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green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ould rat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isten to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alk himself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18E-C38D-4AE5-830B-142DAFD2DC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The student would rather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teach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par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2B3-0912-4A1F-8FE5-C9FEBDC966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愿意坐火车旅行，不愿坐汽车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2. I would rather travel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than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3280" y="3581280"/>
            <a:ext cx="17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7960" y="44197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784-013E-4AF3-88EA-1531823141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therwise 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v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therwi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e won’t be able to h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urselves tal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if no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B19-9787-4BC6-B880-A1A9DFD7A7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onj.    if not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Now I must g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shall be 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the birthday par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穿上大衣，否则你会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680" y="464832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ar your co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’ll be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77C-EF86-4952-91DC-5CB188377E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get to know sth. about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A08-A290-4E44-BB5B-F63A121C0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r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must pay $ 100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The book must be he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have los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E3E-D81C-45C3-9725-728F10612E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 not to play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ike one thing or person bett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喜欢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C59-5B6F-4763-89A9-4837072EFB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him to spe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ay 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CC0-3F74-453D-9ED3-1596FF46D1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不愿意你离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you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 _ 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0080" y="411480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not to le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F4D-5EA8-4BF3-9343-F494B9A343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不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 offered to drive us home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to wal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not to st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346-E702-4792-B235-C6EFA4C094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比起后者来更喜欢前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1. I prefer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English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to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Japanese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193-177F-4710-8E7D-E39FF22529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atch TV at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ch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TV at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5F3-C099-4003-A8CF-3E46C13664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to do) sth. rather than (do) sth.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…而不愿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喜欢牛肉，不喜欢猪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pref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 rea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ooks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it idl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38098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prefer beef rather than p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0B9-32F0-41F3-9124-F3C67AAF5B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refer to,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151-45E1-4CEE-90EA-8B7FB0CDDF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prefer to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FE9-A2FE-4E1E-91EB-06B1645792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156-EEBD-43DB-A267-9820FEE831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17F-768F-45A2-95D4-1AD73A55B7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206-BF68-4029-8341-AF318B9E55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F12-BD53-438A-A9EC-1616C22624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5BB-4BDB-4765-A482-E2FF013AEC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1D0-264A-470A-A082-4A5BED8E79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B87-7194-4A5B-8F39-4C8CACA82B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8F6-02C7-4AAE-B904-AE6D624CDC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B25-492B-43E8-AA56-98047F0419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A68-8E3D-4ECD-ADC2-75EB4C04A5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E26-F790-476F-B4BE-20435D1EFC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B67-8007-435A-BA63-1FD375F942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601-535C-4ED3-92A1-56E318A7971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3A6-7AC6-46E8-B6E1-15D7929E501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5B7-9D61-48AF-B84E-8A63F1389E8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D55-D296-4EFB-8B38-77C760B0A25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any people write music fo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ll pop stars write so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Folk music has a long hi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666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64832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13F-6E1B-4FB7-81FD-47E72C6DFF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n the old days without radio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V or  cinema, people loved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spected the music perform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ery much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Now, some musicians per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the streets for free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8360" y="5334120"/>
            <a:ext cx="5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489-4F2D-41C8-B871-732830E4181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Folk music plays an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rt in African people’s lives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China makes the most film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orld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Musicals are films with music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1320" y="4267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4952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C6E-B078-47FF-8776-7C6A14D03D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9. West Indians were brough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frica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 Jazz was born in 1980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 Jazz was developed in the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the USA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120" y="2819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45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495288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A67-085C-41BF-A3E5-F9391EAEA1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country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ra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o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BA4-3B2C-44D0-BE69-ADC5445C5A6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855-FE93-40A8-A288-48BEBBEE742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46C-F568-4026-A9E5-B3692A380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流行音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rong beat and not of l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est, especially just fav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a short time by younger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E8E-0EBB-4C4A-8DB6-FCDB43E619C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9DB-AA51-4904-B91F-5DFF3E03DA4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爵士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usic originated by black Americans, usually with a strong beat and some free playing by each musician in the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376-C767-400E-B68D-F87C9518DC0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1D6-57D8-4304-8DB7-74B95D0FDAE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摇滚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lso called rock and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stro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at, played loudly on electr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ments, in which the sing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peats the same few simpl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E91-67BD-492D-A3B1-38CCCFA3F6F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. Word study— Page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B. Exercise 2 — Page 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D30-959C-4F8E-90A7-241DF9609E0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ww.bjedu.gov.c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905-BF32-4838-AB3E-6CEF163FE23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A33-EEE2-421F-A005-55BA385DC4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D8C-D890-4964-A0C2-1A7ADB97B3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239-98DF-4899-BBE2-F28C63A48E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amilia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4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songs that everyon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s familiar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generally  known or see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熟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3F1-2CA7-43E2-807C-39BF12CD98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1:29:00Z</dcterms:created>
  <dc:creator>BJ4HS</dc:creator>
  <dc:description/>
  <dc:language>en-US</dc:language>
  <cp:lastModifiedBy>Zhang Lingdi</cp:lastModifiedBy>
  <dcterms:modified xsi:type="dcterms:W3CDTF">2003-06-03T06:45:43Z</dcterms:modified>
  <cp:revision>107</cp:revision>
  <dc:subject/>
  <dc:title>Unit 21 Music （一）</dc:title>
</cp:coreProperties>
</file>